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BEA1-3583-4442-A3A7-0246174A0F60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E7A3-8BE3-4C64-B008-F7A4560A2BAE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4E39A-9909-4C19-BEE7-DD0539F6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4FA79-A113-49DB-A0BC-69AA1259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D22E2-C5A8-4318-9FF6-48FEA276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2F767-00C3-46FC-821A-BA17EAC2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687BE-569B-456C-B14B-1848FDF1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610CB-9EA5-4257-ACFA-08794312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C9479-22B8-4E5E-B40D-BB95A11A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3D499-D61E-4D6F-AC20-282ADC98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984A6-284B-457A-98EC-282A4C4F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B797C-77EB-4950-9F33-B43ADAD1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9E227-9A06-4E9E-B888-FB6630BB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737B9-E4E0-46FC-8DD3-CD883275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D7750-6F08-4374-B71C-CC7D6DC9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1505E-5568-49E2-97B5-AA0D8E10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FD165-8947-4BF7-A279-DF75F3AA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A513B-76E5-4B18-B942-C959FD0E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41B86-698E-4CF4-BB42-43D9FCAA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E9BE5-4B04-4879-9B7C-D7011E47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2E13E-5E40-40C2-A596-A82107D8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B230C-00C3-438D-BEF4-3F956FD8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CA84F-FE7B-4FE4-8987-4E0016F7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7F78C-69B9-4D32-AE7D-0A33624B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37532-569D-4B33-8C45-881526E0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DEB65-F5D4-413A-B6C2-C59B2B9B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470F9-3281-42EF-8294-A0C83766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F2767-11C7-4A54-AE23-87318E0C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440B9-F99C-45FC-996D-0991445F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39DD0-4691-4D2A-8C0C-6B73F38D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8AA2A-658E-4697-897D-2A538942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69817-0768-4E91-BC28-4ECE1951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234-2889-4636-B842-31777D1D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1D421-8844-4D7B-A50F-1443C391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35CD1-3187-4DD8-BE27-143D26C4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277E0-B12D-40D7-9ECF-4B67202C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6789A-BCA3-405D-A690-4440673C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EBDAD-A022-4B5B-AEB9-10332B43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DD66E-D71A-4C89-8759-6C18D7E8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D9716-54F2-4E18-B2D3-FA6D3CBF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D1C81-B455-4F97-A5A5-139CEF31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7DCA6-A218-4794-AC96-6EF91358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09A1E-A735-48E2-AC6C-2DF31C53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BAD-E868-4F99-BFDD-466D517F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FB2EF-A320-4F0C-88F1-44E65170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C2B1D-41CB-44C3-BF2E-AF815E0E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C95C5-55A9-4FE1-B45C-CAF41F42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45929-28EF-4404-AE4E-B0ACF157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9472D-2CBE-41F4-AD19-2742D3B0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548-8252-4DBA-B2EC-F2750492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B0CB-08A5-43F5-ACFA-DA934C02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E76-41B7-46EF-9681-3FCB5DE0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C87-43E6-49D9-9767-FF3F7962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137C-368F-46C1-A9AF-8A80CE77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252-92A1-41BE-882E-4AAAE4A4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2DC-883D-4A33-8AC1-5F74136D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38CB-C832-4723-B475-6BAFD65C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675-C08C-4C02-B3F0-16DF0BB4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AEC5-E27E-487E-842E-E650D04A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129F-41B3-457B-9D48-7B6CDE08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7C7F-6C50-491A-8C02-4FD249F6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3B9D-950E-4C42-BB53-7DBEEFFD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FFCE-3A3D-4B14-AEF4-0227A58B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8D9A-D820-43D0-854A-3214B6C4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8CA8-8DB7-4086-A611-104A8681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73FD-404C-4464-A8C6-6BE601A0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484D-7DB0-4707-960B-78DB0E84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F323-B1C1-4678-839E-823AE3DD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3C49-E6A8-43B3-B173-6E17D1EC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CC31-D7E9-4BDA-8047-1C98BD70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EDF0-CF80-44B6-B5D0-2BFD8E7F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FCB77-0929-4B27-B77E-EF428B3A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0AD35-DBAF-4327-B7B1-5A26D38C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CE455-A6AA-44B1-8CC7-05F8A0EC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61328-0F0B-4A51-8E4E-D6C4BFC4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88B66-D934-4258-8701-C0681E16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3832D-7AFA-4910-9AFA-19201E65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4E172-FFCD-4C3F-96E1-3C79FE19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40833-CDF2-4F9F-A90B-A9C94AF9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B7E57-6C1A-4F08-ADF9-4D31CF7F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46C29-3503-4754-A8C6-EDA2F570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12140-7D0A-4DAA-99D7-A356FEA6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D54C8-6405-4D45-BE5A-9C6B19A1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916CE-D554-4270-A774-A3D22501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26790-576A-4891-9C6F-251AA876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6389F-E087-4F16-81FC-9B10E26A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D1A32-C89D-4535-96A3-D6E625B3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B90C1-A0AA-4505-A7DF-B4D3213F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5BAEC-F9CD-4D53-8AF5-F3177E66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8C063-D1D5-442B-AB6A-5EDA15B7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B6146-467F-4CBC-AF02-D731BE77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364CC-544A-40FA-9A26-13EB766A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FB09C-C6D2-443E-8B59-9434FE5B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2D3DB-6CC1-4FCB-9DBB-B9332442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3A5B3-9605-461E-8A12-2775897A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BAFD8-D2ED-4DD7-A4C2-6ECBD1BA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60115-EF75-4274-9B7F-57DC08DC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9608A-D4AB-4CC8-9D1F-CA1694AE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6BCEA-836A-4438-8BE9-1404DC04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1086D-59B2-4EE7-B8F6-EC9A0D38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2E201-1E4A-4317-A3F4-E55B5618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9DAEF-AE75-4F13-A34C-66B439F6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4435A-1634-4ED7-8E71-3D3A6915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8D5EC-33F4-451D-9F0A-9D72144B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8FE86-F00E-4034-883C-DD77CE53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E32E0-7C5B-49FA-AC1E-7BC932E1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20E26-0A43-411A-98E1-910AFD1B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18212-C3DA-47F6-9FFE-B5231568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EEF69-EB4A-4793-AEAE-26466504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19D22-8CC0-4FC6-8AFE-A46BA9A5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6D6E4-F461-4915-9263-83031090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54B8F-33B9-4D69-8AD0-5FB521A1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ECFAD-598B-414A-86D8-CC9FA4C5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6FDA4-4156-41E1-BD82-7A2D768B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5D0FF-451E-4E40-A420-D1516F53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047EB-1006-4FA8-A01D-1F7759FB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CCBF2-72D6-46D8-9D8D-AE8C330E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90189-7C31-44B9-B031-BEAFB1C0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79454-35C2-4FF4-911C-0A442602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42994-0157-4E0B-A533-337EE7A5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D8FD1-1485-4761-B257-E1283C82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D7959-48A4-48D9-A812-BA3A6BC2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5FE33-AA95-43A4-8AFE-2984ED3D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D894A-80ED-477E-914C-D0D9A8A9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B16A2-D4CB-4F89-85A6-181258D6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67964-40B7-472A-AEDE-19B7F109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EE617-2E06-48CE-A755-FA679960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C6715-C247-4323-9558-2FFC927C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EDDB3-AE07-4B92-8E2D-BDF28E80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46D26-EAC4-408F-9959-81BCCBB1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64C8D-A271-4658-94C3-BCDEFB2C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12FCC-8F89-4DBF-B196-ED5F9599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E9634-F253-47D2-97D8-FBED40F4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E4A8E-BF23-4986-8869-6A8097E0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7F23-0532-43BA-B77E-118F652C2C3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D81A-910B-4425-900D-6A2F48DE274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8EDC-581A-42ED-8D19-0E3DFE81436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D8A3-DB81-4931-A458-2D98ACB5FC5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BDBE-C913-44D9-B645-B2958F4BA18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E347-E63E-47C3-97AF-1E015DD7565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DC5C-F1E5-4420-9D08-C1EFACB6DD5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D765-FD64-4689-8D7A-CD53EC1D587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6BD8-4BB4-47C0-A161-ABAAC44E7D1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936C-B3A6-425D-9089-A1EE7FEECD4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DCD0-5936-4F8A-9BC5-9746BD6582F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5"/>
          <p:cNvSpPr/>
          <p:nvPr/>
        </p:nvSpPr>
        <p:spPr>
          <a:xfrm>
            <a:off x="0" y="1989000"/>
            <a:ext cx="9144000" cy="46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Our research uses Mother - baby trial approach  to evaluate and validate the technologies (test lines; tillage; fertilizer, nutrition/feeding 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Mother Trial 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Researcher designed and farmer/researcher implemented trial  (for technology testing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armer’s contribution: Land, labour, security and certain activities to manage the plo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Incentives- crop produce goes to farmers and monitory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Baby Trial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Used  for technology validation. Farmer provides land, labour and manage the  trial; seed/fertilizer </a:t>
            </a:r>
            <a:r>
              <a:rPr b="0" i="1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tc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supplied by researc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Incentive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farmers get quick access to technology and know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2"/>
          <p:cNvSpPr/>
          <p:nvPr/>
        </p:nvSpPr>
        <p:spPr>
          <a:xfrm>
            <a:off x="611280" y="1162080"/>
            <a:ext cx="791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224e25"/>
                </a:solidFill>
                <a:latin typeface="Calibri"/>
              </a:rPr>
              <a:t>Inputs and Incentives – KK persp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put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304920" y="609480"/>
          <a:ext cx="8839080" cy="4937400"/>
        </p:xfrm>
        <a:graphic>
          <a:graphicData uri="http://schemas.openxmlformats.org/drawingml/2006/table">
            <a:tbl>
              <a:tblPr/>
              <a:tblGrid>
                <a:gridCol w="1819080"/>
                <a:gridCol w="5710320"/>
                <a:gridCol w="1309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or F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s for Technology te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her trials: typical of crop, soils: test lines, candidate varieties, fertilizer options, chicken, feeds, Farm implements, tree seedlings, crop management inputs - pesticides, herbicides,  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s for Technology valid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y trials at same time as mother trials (random): promising technologies selected by farmers; candidate varieties, promising fertilizer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 under farmer’s 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eneric definition covering  situations above with examples…and data/knowledge collected or genera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2"/>
          <p:cNvSpPr/>
          <p:nvPr/>
        </p:nvSpPr>
        <p:spPr>
          <a:xfrm>
            <a:off x="-108000" y="1268280"/>
            <a:ext cx="9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review by the team for publication – Key iss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792000" y="2060640"/>
            <a:ext cx="784872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Data is generally assembled but some of them need reanaly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ed to sharpen background and discussions/justific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ome methodologies should be more precisely describ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larifications/assumptions/sensitivity analy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tatistics – qualitative, quantitative data- how do we handle. Some needs qualitative support for discuss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Overall on the science – how novel it is – highlight – how it solves the problem especially in the light of sustainable intensification for semi-arid reg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e have some publication which needed to be combined with Bab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oul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R4D platform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Calibri"/>
              </a:rPr>
              <a:t>Socioeconomic data, fertilizers and agronomy, soil land and 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2"/>
          <p:cNvSpPr/>
          <p:nvPr/>
        </p:nvSpPr>
        <p:spPr>
          <a:xfrm>
            <a:off x="3203640" y="765000"/>
            <a:ext cx="28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Publication stat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270000" y="1413000"/>
          <a:ext cx="8856360" cy="5302080"/>
        </p:xfrm>
        <a:graphic>
          <a:graphicData uri="http://schemas.openxmlformats.org/drawingml/2006/table">
            <a:tbl>
              <a:tblPr/>
              <a:tblGrid>
                <a:gridCol w="1135080"/>
                <a:gridCol w="984240"/>
                <a:gridCol w="984240"/>
                <a:gridCol w="1060200"/>
                <a:gridCol w="1059120"/>
                <a:gridCol w="1307880"/>
                <a:gridCol w="1192320"/>
                <a:gridCol w="1133280"/>
              </a:tblGrid>
              <a:tr h="912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uscri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papers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papers submit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manuscript ready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needed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jour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manuscript under prepa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needed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0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itha Seet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nal and child nutr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aflatoxin and stun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06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thony Kima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e, ecosystem &amp; envir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y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04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w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and water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455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tha swam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c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 cost bene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28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uba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85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trick Ok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t bree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seed systems, PVS, cost benefit , food sec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03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EYSWAI</cp:lastModifiedBy>
  <dcterms:modified xsi:type="dcterms:W3CDTF">2016-07-02T08:58:31Z</dcterms:modified>
  <cp:revision>3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